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BA5-2501-47C7-9AF1-62700E40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afutures.com/sugartrad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ancreas is mostly an exocrine gland (digestive enzymes to the intestines), but 2% is the islets of Langerhans, endocrine cell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ohone09.wikispaces.com/Group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anford.edu/group/hopes/cgi-bin/wordpress/2010/06/stress-and-huntingtons-disea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umbiancentre.org/?p=3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ocietynews.org/diabet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5CC-41E1-46B8-B1FC-64F987E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297-83AD-4CC0-93BE-A17DAC3E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58C-9738-4607-8AF2-DF3E6B93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F95-9399-4BB7-953D-FEA75EF8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6DA-3F17-4115-BDFD-DBE9E6C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8C3-785C-480A-8B03-F6C0DF3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5A6-EBE5-4FB1-B654-F88251D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4BF-F7D9-4EAD-8F28-9276627F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789-047E-45F1-9470-F905501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B4A-C4F9-4F7A-B1BE-E7F486C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715-9E0B-4A0C-9117-0FD7C4B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108-CDD2-40A5-A7AB-113945B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1CA-54CE-4018-8874-5CF4EC86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gulating Blood Suga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ells in pancreas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in 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daily administra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production of insulin and/or the inability to bind to its receptors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evelops in adulthood, strong genetic link &amp; association with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controlled diet &amp; exercise and sometimes oral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ta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in some women during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risk of future development of diabetes in mother and/o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4840" y="609480"/>
            <a:ext cx="513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types of hormones, including glucocortic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corticoids such as cortisol help to raise 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high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low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glycemia due to problems with insulin production and/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ymptoms of diab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ur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p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3-01-09T04:17:01Z</dcterms:modified>
  <cp:revision>107</cp:revision>
  <dc:subject/>
  <dc:title>Hormones that Affect Blood Sugar  &amp; Reproductive Hormones</dc:title>
</cp:coreProperties>
</file>